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click.wav" ContentType="audio/x-wav"/>
  <Override PartName="/ppt/media/image6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8CD-B9B7-4373-8198-02D637A9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D4A-31AC-422B-848C-CFB5ECC0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A39-1043-4165-853C-7FACDDB6F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0BD-1C0F-4C3C-94E5-AD33D401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2A56-73CC-492F-847B-0F75A981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4F54-71D7-4A49-B580-365F4E4E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22F9-8541-46EB-9CE7-CB29E041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8A59-9E2E-4C7E-B954-3300F4B0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CA06-C36A-40CF-952C-526BFA92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A6F6-203B-43CC-9FE8-98646397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9465-8484-44E1-AB25-C3219B52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710-A2CE-4CFC-92DB-D7D703CE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E5B-DD5F-43CA-AACC-D66A3987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628E-9184-441B-9C23-8BE34096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547D-63BB-4C32-B044-15353BD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3C4C1-A073-4F7A-9F93-A6A4AA7D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4F2F-E60F-4C64-91CE-A397AD57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4BFA-D080-4848-9E1C-EA58293A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4E41-0E6D-4A1F-8C54-5BF52ED5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CF992-D467-47AF-B5CF-E83FA2F4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9B3F9-EF93-4822-902A-A43CA854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B36BD-10A6-47DF-B969-02727A81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9ED-2DDC-4525-A672-8702BA6F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83BC-D88B-4CEE-8FC5-5AE6FD6D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A6CD-5524-496C-B340-4C70C5BB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06F7-145F-479D-9EAF-1CB565CC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9044C-2398-4711-A042-7208723C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620E7-A282-46A3-BB2A-279DB0B0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582C5-E6C8-4931-B3FA-619C902E6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809F-AC61-4334-ABED-4A8ABD30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88C7-D9D7-4B36-9186-E72CE107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4EB53-839A-4CDC-B062-444907F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62504-A816-4290-9160-A7F5C62A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5F1-C921-4C2F-9469-B3A513A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FD01-7668-43C9-ADBE-FD712EB7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2E753-6F73-4D85-B346-71960D18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54CB3-CC9F-43A2-B99C-AC3E9EC4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1CEA8-421F-4515-8C78-15F4E843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D8399-4371-4872-B0EB-CA2B25EC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1670C-5D2E-4C8E-83DA-416A829A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15589-F6D5-470A-99B6-043F07D8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E8EC-B756-4071-B8D5-00F2B50B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89866-4F44-4D2A-B6C4-15F74C36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9C7F4-62E8-4EFD-9C67-70ACCA70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A26-457A-47B4-B15B-C5347BA6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4B79A-3A1F-47D1-BBDF-3F766E89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5632-7BD9-4044-B918-7D654161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6739E-297B-4550-B06B-F6D1787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76F2D-67F0-4753-ADCE-DDF133AB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FA2B-13D7-44EC-A797-0E88A75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71C72-C884-4EB1-8239-F95760AA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22163-89BC-4780-8975-32090D77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6CF7C-EA78-41A1-A369-BC804533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8BDB4-9B2D-4536-9489-F74BF85B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A2BE-A271-4F34-9D1A-E0F6FD0E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AC9-3674-4FCC-A5E2-E8111597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003B6-7C56-4092-8A20-75EA2617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924-1074-4717-A58A-DA57A1B0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AD5A-07A3-43A9-85DB-26B07244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0AA-8D51-4D6E-A4F3-495635A7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6D07-04CC-4283-8566-86496B441D9A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241C-3652-454B-966A-B3F21CDBA484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613A-6864-47C2-905F-7F8DA952753B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A188-3CED-41EF-963E-4C15A3207047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013B-241E-44A4-8914-913FA991B0A2}" type="slidenum">
              <a:rPr b="0" lang="zh-CN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文本框 1"/>
          <p:cNvSpPr/>
          <p:nvPr/>
        </p:nvSpPr>
        <p:spPr>
          <a:xfrm>
            <a:off x="1258920" y="285264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6.1.1</a:t>
            </a:r>
            <a:r>
              <a:rPr b="0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反比例函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3"/>
          <p:cNvSpPr/>
          <p:nvPr/>
        </p:nvSpPr>
        <p:spPr>
          <a:xfrm>
            <a:off x="428760" y="714240"/>
            <a:ext cx="75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.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是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en-US" sz="3200" spc="-1" strike="noStrike" baseline="30000">
                <a:solidFill>
                  <a:srgbClr val="0000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成反比例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=3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y=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写出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函数关系式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=1.5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值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438120" y="2786040"/>
            <a:ext cx="8348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已知函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=m+n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其中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m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成正比例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n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成反比例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且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=1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y=4;x=2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1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与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函数关系式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(2)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x=4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时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求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的值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1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1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285840" y="704160"/>
            <a:ext cx="828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3 .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近视眼镜的度数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y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度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与镜片焦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x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米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成反比例，已知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4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度近视眼镜镜片的焦距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0.2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米，则眼镜度数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与镜片焦距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x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之间的函数关系式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___________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357120" y="3500280"/>
            <a:ext cx="7885080" cy="2565720"/>
            <a:chOff x="357120" y="3500280"/>
            <a:chExt cx="7885080" cy="2565720"/>
          </a:xfrm>
        </p:grpSpPr>
        <p:sp>
          <p:nvSpPr>
            <p:cNvPr id="378" name="Rectangle 4"/>
            <p:cNvSpPr/>
            <p:nvPr/>
          </p:nvSpPr>
          <p:spPr>
            <a:xfrm>
              <a:off x="357120" y="3852000"/>
              <a:ext cx="7885080" cy="22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4.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  <a:ea typeface="宋体"/>
                </a:rPr>
                <a:t>反比例函数             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中，当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x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的值由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4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增加到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6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时，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的值减小</a:t>
              </a:r>
              <a:r>
                <a:rPr b="1" lang="en-US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3</a:t>
              </a:r>
              <a:r>
                <a:rPr b="1" lang="zh-CN" sz="3200" spc="-1" strike="noStrike">
                  <a:solidFill>
                    <a:srgbClr val="0000cc"/>
                  </a:solidFill>
                  <a:latin typeface="宋体"/>
                  <a:ea typeface="宋体"/>
                </a:rPr>
                <a:t>，求这个反比例函数的解析式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9" name="Object 4"/>
                <p:cNvSpPr txBox="1"/>
                <p:nvPr/>
              </p:nvSpPr>
              <p:spPr>
                <a:xfrm>
                  <a:off x="3021120" y="3500280"/>
                  <a:ext cx="936360" cy="907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0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0" y="691920"/>
            <a:ext cx="9072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已知圆柱的侧面积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10π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cm</a:t>
            </a:r>
            <a:r>
              <a:rPr b="1" lang="zh-CN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若圆柱底面半径为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rc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高为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hc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则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h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与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r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的函数图象大致是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(       )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382" name="Group 3"/>
          <p:cNvGrpSpPr/>
          <p:nvPr/>
        </p:nvGrpSpPr>
        <p:grpSpPr>
          <a:xfrm>
            <a:off x="719280" y="3138120"/>
            <a:ext cx="8076600" cy="2216520"/>
            <a:chOff x="719280" y="3138120"/>
            <a:chExt cx="8076600" cy="2216520"/>
          </a:xfrm>
        </p:grpSpPr>
        <p:sp>
          <p:nvSpPr>
            <p:cNvPr id="383" name="Line 4"/>
            <p:cNvSpPr/>
            <p:nvPr/>
          </p:nvSpPr>
          <p:spPr>
            <a:xfrm flipV="1">
              <a:off x="6357600" y="4082760"/>
              <a:ext cx="200016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 flipH="1" flipV="1">
              <a:off x="7348320" y="3138120"/>
              <a:ext cx="2880" cy="17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6"/>
            <p:cNvSpPr/>
            <p:nvPr/>
          </p:nvSpPr>
          <p:spPr>
            <a:xfrm>
              <a:off x="7360920" y="401148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7"/>
            <p:cNvSpPr/>
            <p:nvPr/>
          </p:nvSpPr>
          <p:spPr>
            <a:xfrm>
              <a:off x="1252440" y="4834080"/>
              <a:ext cx="7162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(A)               (B)                (C)                  (D)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8"/>
            <p:cNvGrpSpPr/>
            <p:nvPr/>
          </p:nvGrpSpPr>
          <p:grpSpPr>
            <a:xfrm>
              <a:off x="719280" y="3157560"/>
              <a:ext cx="1904400" cy="1860480"/>
              <a:chOff x="719280" y="3157560"/>
              <a:chExt cx="1904400" cy="1860480"/>
            </a:xfrm>
          </p:grpSpPr>
          <p:sp>
            <p:nvSpPr>
              <p:cNvPr id="388" name="Line 9"/>
              <p:cNvSpPr/>
              <p:nvPr/>
            </p:nvSpPr>
            <p:spPr>
              <a:xfrm>
                <a:off x="852120" y="4605480"/>
                <a:ext cx="133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0"/>
              <p:cNvSpPr/>
              <p:nvPr/>
            </p:nvSpPr>
            <p:spPr>
              <a:xfrm flipV="1">
                <a:off x="871200" y="3268440"/>
                <a:ext cx="0" cy="133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1"/>
              <p:cNvSpPr/>
              <p:nvPr/>
            </p:nvSpPr>
            <p:spPr>
              <a:xfrm>
                <a:off x="1557000" y="4649760"/>
                <a:ext cx="1066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/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2"/>
              <p:cNvSpPr/>
              <p:nvPr/>
            </p:nvSpPr>
            <p:spPr>
              <a:xfrm>
                <a:off x="871200" y="315756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h/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3"/>
              <p:cNvSpPr/>
              <p:nvPr/>
            </p:nvSpPr>
            <p:spPr>
              <a:xfrm>
                <a:off x="719280" y="4452840"/>
                <a:ext cx="21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Arc 14"/>
              <p:cNvSpPr/>
              <p:nvPr/>
            </p:nvSpPr>
            <p:spPr>
              <a:xfrm flipV="1">
                <a:off x="861840" y="3385440"/>
                <a:ext cx="877320" cy="1189080"/>
              </a:xfrm>
              <a:custGeom>
                <a:avLst/>
                <a:gdLst>
                  <a:gd name="textAreaLeft" fmla="*/ 0 w 877320"/>
                  <a:gd name="textAreaRight" fmla="*/ 877680 w 877320"/>
                  <a:gd name="textAreaTop" fmla="*/ -360 h 1189080"/>
                  <a:gd name="textAreaBottom" fmla="*/ 1189080 h 11890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Line 15"/>
            <p:cNvSpPr/>
            <p:nvPr/>
          </p:nvSpPr>
          <p:spPr>
            <a:xfrm>
              <a:off x="2680920" y="4605480"/>
              <a:ext cx="133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 flipV="1">
              <a:off x="2700000" y="326844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 Box 17"/>
            <p:cNvSpPr/>
            <p:nvPr/>
          </p:nvSpPr>
          <p:spPr>
            <a:xfrm>
              <a:off x="3385800" y="46497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2700000" y="3157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2547720" y="445284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20"/>
            <p:cNvSpPr/>
            <p:nvPr/>
          </p:nvSpPr>
          <p:spPr>
            <a:xfrm>
              <a:off x="4738320" y="4605480"/>
              <a:ext cx="133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21"/>
            <p:cNvSpPr/>
            <p:nvPr/>
          </p:nvSpPr>
          <p:spPr>
            <a:xfrm flipV="1">
              <a:off x="4757400" y="3268440"/>
              <a:ext cx="0" cy="133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22"/>
            <p:cNvSpPr/>
            <p:nvPr/>
          </p:nvSpPr>
          <p:spPr>
            <a:xfrm>
              <a:off x="7729200" y="4083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23"/>
            <p:cNvSpPr/>
            <p:nvPr/>
          </p:nvSpPr>
          <p:spPr>
            <a:xfrm>
              <a:off x="4757400" y="31575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24"/>
            <p:cNvSpPr/>
            <p:nvPr/>
          </p:nvSpPr>
          <p:spPr>
            <a:xfrm>
              <a:off x="4605120" y="4452840"/>
              <a:ext cx="21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rc 25"/>
            <p:cNvSpPr/>
            <p:nvPr/>
          </p:nvSpPr>
          <p:spPr>
            <a:xfrm rot="10800000">
              <a:off x="4909680" y="3614760"/>
              <a:ext cx="837720" cy="83808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26"/>
            <p:cNvSpPr/>
            <p:nvPr/>
          </p:nvSpPr>
          <p:spPr>
            <a:xfrm flipV="1">
              <a:off x="2700000" y="3687480"/>
              <a:ext cx="911160" cy="91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443200" y="46054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28"/>
            <p:cNvSpPr/>
            <p:nvPr/>
          </p:nvSpPr>
          <p:spPr>
            <a:xfrm>
              <a:off x="6967440" y="3244680"/>
              <a:ext cx="76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/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rc 29"/>
            <p:cNvSpPr/>
            <p:nvPr/>
          </p:nvSpPr>
          <p:spPr>
            <a:xfrm flipV="1" rot="5400000">
              <a:off x="7424280" y="3319920"/>
              <a:ext cx="685800" cy="6854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rc 30"/>
            <p:cNvSpPr/>
            <p:nvPr/>
          </p:nvSpPr>
          <p:spPr>
            <a:xfrm flipV="1" rot="16200000">
              <a:off x="6585840" y="4158360"/>
              <a:ext cx="685800" cy="6854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360 h 685440"/>
                <a:gd name="textAreaBottom" fmla="*/ 686160 h 6854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AutoShape 32">
            <a:hlinkClick r:id="rId1" action="ppaction://hlinksldjump"/>
          </p:cNvPr>
          <p:cNvSpPr/>
          <p:nvPr/>
        </p:nvSpPr>
        <p:spPr>
          <a:xfrm>
            <a:off x="8317080" y="6093000"/>
            <a:ext cx="502920" cy="43164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64" h="21600">
                <a:moveTo>
                  <a:pt x="0" y="0"/>
                </a:moveTo>
                <a:lnTo>
                  <a:pt x="25164" y="0"/>
                </a:lnTo>
                <a:lnTo>
                  <a:pt x="25164" y="21600"/>
                </a:lnTo>
                <a:lnTo>
                  <a:pt x="0" y="21600"/>
                </a:lnTo>
                <a:close/>
              </a:path>
              <a:path fill="lightenLess" w="25164" h="21600">
                <a:moveTo>
                  <a:pt x="0" y="0"/>
                </a:moveTo>
                <a:lnTo>
                  <a:pt x="25164" y="0"/>
                </a:lnTo>
                <a:lnTo>
                  <a:pt x="23764" y="1400"/>
                </a:lnTo>
                <a:lnTo>
                  <a:pt x="1400" y="1400"/>
                </a:lnTo>
                <a:close/>
              </a:path>
              <a:path fill="darken" w="25164" h="21600">
                <a:moveTo>
                  <a:pt x="25164" y="0"/>
                </a:moveTo>
                <a:lnTo>
                  <a:pt x="25164" y="21600"/>
                </a:lnTo>
                <a:lnTo>
                  <a:pt x="23764" y="20200"/>
                </a:lnTo>
                <a:lnTo>
                  <a:pt x="23764" y="1400"/>
                </a:lnTo>
                <a:close/>
              </a:path>
              <a:path fill="darkenLess" w="25164" h="21600">
                <a:moveTo>
                  <a:pt x="25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4" y="20200"/>
                </a:lnTo>
                <a:close/>
              </a:path>
              <a:path fill="lighten" w="25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4" h="21600">
                <a:moveTo>
                  <a:pt x="5576" y="3794"/>
                </a:moveTo>
                <a:lnTo>
                  <a:pt x="19588" y="10800"/>
                </a:lnTo>
                <a:lnTo>
                  <a:pt x="5576" y="17806"/>
                </a:lnTo>
                <a:close/>
              </a:path>
            </a:pathLst>
          </a:custGeom>
          <a:solidFill>
            <a:srgbClr val="90c2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85840" y="714240"/>
            <a:ext cx="8351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、一水池内有污水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20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米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，设放完全池污水的时间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分钟），每分钟的放水量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w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（米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），规定放水时间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分钟至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分钟之间，请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t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表示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w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的函数，并给出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宋体"/>
              </a:rPr>
              <a:t>w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的取值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随堂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巩固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63360" y="2571840"/>
            <a:ext cx="9072720" cy="31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已知函数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=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成正比例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成反比例，且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4;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88920" y="714240"/>
          <a:ext cx="905508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714240"/>
                    <a:ext cx="905508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117360" y="857160"/>
          <a:ext cx="902664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857160"/>
                    <a:ext cx="902664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20" name="Object 3"/>
              <p:cNvSpPr txBox="1"/>
              <p:nvPr/>
            </p:nvSpPr>
            <p:spPr>
              <a:xfrm>
                <a:off x="838080" y="3505320"/>
                <a:ext cx="3048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4"/>
              <p:cNvSpPr txBox="1"/>
              <p:nvPr/>
            </p:nvSpPr>
            <p:spPr>
              <a:xfrm>
                <a:off x="3854520" y="3276720"/>
                <a:ext cx="2690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2" name="Text Box 11"/>
          <p:cNvSpPr/>
          <p:nvPr/>
        </p:nvSpPr>
        <p:spPr>
          <a:xfrm>
            <a:off x="838080" y="4724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=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5"/>
              <p:cNvSpPr txBox="1"/>
              <p:nvPr/>
            </p:nvSpPr>
            <p:spPr>
              <a:xfrm>
                <a:off x="3616200" y="4267080"/>
                <a:ext cx="39690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由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6"/>
              <p:cNvSpPr txBox="1"/>
              <p:nvPr/>
            </p:nvSpPr>
            <p:spPr>
              <a:xfrm>
                <a:off x="3143160" y="5562720"/>
                <a:ext cx="27036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5" name="AutoShape 3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巩固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179280" y="1197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通过这节课的学习你有哪些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54160" y="2174760"/>
            <a:ext cx="82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你还有哪些问题？与同伴进行交流或向老师提问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54a021"/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Trebuchet MS"/>
                <a:ea typeface="华文新魏"/>
              </a:rPr>
              <a:t>课堂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08000" y="704880"/>
            <a:ext cx="892800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</a:t>
            </a:r>
            <a:r>
              <a:rPr b="1" lang="zh-CN" sz="15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、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什么是函数？什么是</a:t>
            </a:r>
            <a:r>
              <a:rPr b="1" lang="zh-CN" sz="1500" spc="-1" strike="noStrike">
                <a:solidFill>
                  <a:srgbClr val="0000cc"/>
                </a:solidFill>
                <a:latin typeface="黑体"/>
                <a:ea typeface="黑体"/>
              </a:rPr>
              <a:t>一次函数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？</a:t>
            </a:r>
            <a:r>
              <a:rPr b="1" lang="zh-CN" sz="1500" spc="-1" strike="noStrike">
                <a:solidFill>
                  <a:srgbClr val="0000cc"/>
                </a:solidFill>
                <a:latin typeface="黑体"/>
                <a:ea typeface="黑体"/>
              </a:rPr>
              <a:t>正比例函数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？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500" spc="-1" strike="noStrike">
                <a:solidFill>
                  <a:srgbClr val="0000cc"/>
                </a:solidFill>
                <a:latin typeface="黑体"/>
                <a:ea typeface="黑体"/>
              </a:rPr>
              <a:t>二次函数</a:t>
            </a:r>
            <a:r>
              <a:rPr b="1" lang="zh-CN" sz="1500" spc="-1" strike="noStrike">
                <a:solidFill>
                  <a:srgbClr val="404040"/>
                </a:solidFill>
                <a:latin typeface="黑体"/>
                <a:ea typeface="黑体"/>
              </a:rPr>
              <a:t>？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42920" y="1643040"/>
            <a:ext cx="878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般地，在一个变化过程中，如果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两个变量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并且对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每个确定的值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有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唯一确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与其对应，那么我们就说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自变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是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88120" y="3571920"/>
            <a:ext cx="730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=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k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+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常数，且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次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904320" y="4572000"/>
            <a:ext cx="632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kx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常数，且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叫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正比例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c42f1a"/>
          </a:solidFill>
          <a:ln cap="rnd" w="19080">
            <a:solidFill>
              <a:srgbClr val="8f20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rebuchet MS"/>
                <a:ea typeface="华文新魏"/>
              </a:rPr>
              <a:t>温故知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670680" y="5648400"/>
            <a:ext cx="775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如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y=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a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i="1" lang="en-US" sz="3200" spc="-1" strike="noStrike" baseline="30000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+bx+c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常数，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函数，叫做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二次函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17440" y="4572000"/>
            <a:ext cx="664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已知北京市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总面积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68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方千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人均占有的土地面积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：平方千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/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全市总人口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：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变化而变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1209960" y="3116160"/>
            <a:ext cx="528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某住宅小区要种植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面积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00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矩形草坪，草坪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长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宽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变化而变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08000" y="1785960"/>
            <a:ext cx="717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京沪线铁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全程为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463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km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某次列车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均速度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v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km/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随此次列车的全程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运行时间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单位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变化而变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108000" y="57168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下列问题中，变量间的对应关系可用怎样的函数解析式来表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rebuchet MS"/>
                <a:ea typeface="华文新魏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14"/>
          <p:cNvGrpSpPr/>
          <p:nvPr/>
        </p:nvGrpSpPr>
        <p:grpSpPr>
          <a:xfrm>
            <a:off x="2143080" y="-71280"/>
            <a:ext cx="6981840" cy="6786360"/>
            <a:chOff x="2143080" y="-71280"/>
            <a:chExt cx="6981840" cy="6786360"/>
          </a:xfrm>
        </p:grpSpPr>
        <p:sp>
          <p:nvSpPr>
            <p:cNvPr id="277" name="TextBox 12"/>
            <p:cNvSpPr/>
            <p:nvPr/>
          </p:nvSpPr>
          <p:spPr>
            <a:xfrm>
              <a:off x="6750000" y="1285920"/>
              <a:ext cx="2374920" cy="5429160"/>
            </a:xfrm>
            <a:prstGeom prst="rect">
              <a:avLst/>
            </a:prstGeom>
            <a:solidFill>
              <a:srgbClr val="e76618"/>
            </a:solidFill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形标注 11"/>
            <p:cNvSpPr/>
            <p:nvPr/>
          </p:nvSpPr>
          <p:spPr>
            <a:xfrm>
              <a:off x="2143080" y="-71280"/>
              <a:ext cx="4071960" cy="1785960"/>
            </a:xfrm>
            <a:prstGeom prst="wedgeEllipseCallout">
              <a:avLst>
                <a:gd name="adj1" fmla="val 74916"/>
                <a:gd name="adj2" fmla="val 47407"/>
              </a:avLst>
            </a:prstGeom>
            <a:solidFill>
              <a:srgbClr val="90c226"/>
            </a:solidFill>
            <a:ln cap="rnd" w="19080">
              <a:solidFill>
                <a:srgbClr val="688e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ae0d1"/>
                  </a:solidFill>
                  <a:latin typeface="宋体"/>
                  <a:ea typeface="黑体"/>
                </a:rPr>
                <a:t>这三个函数解析式有什么</a:t>
              </a:r>
              <a:r>
                <a:rPr b="1" lang="zh-CN" sz="3200" spc="-1" strike="noStrike">
                  <a:solidFill>
                    <a:srgbClr val="7030a0"/>
                  </a:solidFill>
                  <a:latin typeface="宋体"/>
                  <a:ea typeface="黑体"/>
                </a:rPr>
                <a:t>共同点</a:t>
              </a:r>
              <a:r>
                <a:rPr b="1" lang="zh-CN" sz="3200" spc="-1" strike="noStrike">
                  <a:solidFill>
                    <a:srgbClr val="fae0d1"/>
                  </a:solidFill>
                  <a:latin typeface="宋体"/>
                  <a:ea typeface="黑体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16"/>
          <p:cNvGrpSpPr/>
          <p:nvPr/>
        </p:nvGrpSpPr>
        <p:grpSpPr>
          <a:xfrm>
            <a:off x="6215040" y="142920"/>
            <a:ext cx="2857680" cy="1191240"/>
            <a:chOff x="6215040" y="142920"/>
            <a:chExt cx="2857680" cy="1191240"/>
          </a:xfrm>
        </p:grpSpPr>
        <p:sp>
          <p:nvSpPr>
            <p:cNvPr id="280" name="TextBox 15"/>
            <p:cNvSpPr/>
            <p:nvPr/>
          </p:nvSpPr>
          <p:spPr>
            <a:xfrm>
              <a:off x="6215040" y="142920"/>
              <a:ext cx="2857680" cy="1191240"/>
            </a:xfrm>
            <a:prstGeom prst="rect">
              <a:avLst/>
            </a:prstGeom>
            <a:gradFill rotWithShape="0">
              <a:gsLst>
                <a:gs pos="0">
                  <a:srgbClr val="f5cdc3"/>
                </a:gs>
                <a:gs pos="100000">
                  <a:srgbClr val="ea815c"/>
                </a:gs>
              </a:gsLst>
              <a:lin ang="5400000"/>
            </a:gradFill>
            <a:ln cap="rnd" w="12600">
              <a:solidFill>
                <a:srgbClr val="e766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1" name="Object 8"/>
                <p:cNvSpPr txBox="1"/>
                <p:nvPr/>
              </p:nvSpPr>
              <p:spPr>
                <a:xfrm>
                  <a:off x="6259320" y="330120"/>
                  <a:ext cx="2757960" cy="78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（</m:t>
                      </m:r>
                      <m:r>
                        <m:t xml:space="preserve">k</m:t>
                      </m:r>
                      <m:r>
                        <m:rPr>
                          <m:lit/>
                          <m:nor/>
                        </m:rPr>
                        <m:t xml:space="preserve">是非零常数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2" name="Object 4"/>
              <p:cNvSpPr txBox="1"/>
              <p:nvPr/>
            </p:nvSpPr>
            <p:spPr>
              <a:xfrm>
                <a:off x="7215120" y="1643040"/>
                <a:ext cx="2000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63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7275600" y="3143160"/>
                <a:ext cx="179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7"/>
              <p:cNvSpPr txBox="1"/>
              <p:nvPr/>
            </p:nvSpPr>
            <p:spPr>
              <a:xfrm>
                <a:off x="6786720" y="4929120"/>
                <a:ext cx="23479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7"/>
          <p:cNvSpPr/>
          <p:nvPr/>
        </p:nvSpPr>
        <p:spPr>
          <a:xfrm>
            <a:off x="289080" y="135720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一般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形如</a:t>
            </a:r>
            <a:r>
              <a:rPr b="1" lang="zh-CN" sz="32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(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常数，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k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≠0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的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称为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反比例函数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，其中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自变量，</a:t>
            </a:r>
            <a:r>
              <a:rPr b="1" i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是函数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20560" y="714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定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9"/>
          <p:cNvGraphicFramePr/>
          <p:nvPr/>
        </p:nvGraphicFramePr>
        <p:xfrm>
          <a:off x="3087720" y="981000"/>
          <a:ext cx="125568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7720" y="981000"/>
                    <a:ext cx="125568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5"/>
          <p:cNvSpPr/>
          <p:nvPr/>
        </p:nvSpPr>
        <p:spPr>
          <a:xfrm>
            <a:off x="560880" y="3073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2229840" y="3778200"/>
            <a:ext cx="44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自变量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的取值范围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e76618"/>
          </a:solidFill>
          <a:ln cap="rnd" w="19080">
            <a:solidFill>
              <a:srgbClr val="aa49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Trebuchet MS"/>
                <a:ea typeface="华文新魏"/>
              </a:rPr>
              <a:t>探究新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1397880" y="4429080"/>
            <a:ext cx="6054120" cy="1261080"/>
            <a:chOff x="1397880" y="4429080"/>
            <a:chExt cx="6054120" cy="1261080"/>
          </a:xfrm>
        </p:grpSpPr>
        <mc:AlternateContent>
          <mc:Choice xmlns:a14="http://schemas.microsoft.com/office/drawing/2010/main" Requires="a14">
            <p:sp>
              <p:nvSpPr>
                <p:cNvPr id="293" name="Object 14"/>
                <p:cNvSpPr txBox="1"/>
                <p:nvPr/>
              </p:nvSpPr>
              <p:spPr>
                <a:xfrm>
                  <a:off x="3087720" y="4429080"/>
                  <a:ext cx="2879640" cy="69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kx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9"/>
            <p:cNvSpPr/>
            <p:nvPr/>
          </p:nvSpPr>
          <p:spPr>
            <a:xfrm>
              <a:off x="1397880" y="4498920"/>
              <a:ext cx="605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宋体"/>
                </a:rPr>
                <a:t>、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形如             </a:t>
              </a:r>
              <a:r>
                <a:rPr b="1" lang="en-US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的式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是反比例函数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0"/>
          <p:cNvGrpSpPr/>
          <p:nvPr/>
        </p:nvGrpSpPr>
        <p:grpSpPr>
          <a:xfrm>
            <a:off x="2036520" y="5670720"/>
            <a:ext cx="4844160" cy="687240"/>
            <a:chOff x="2036520" y="5670720"/>
            <a:chExt cx="4844160" cy="687240"/>
          </a:xfrm>
        </p:grpSpPr>
        <mc:AlternateContent>
          <mc:Choice xmlns:a14="http://schemas.microsoft.com/office/drawing/2010/main" Requires="a14">
            <p:sp>
              <p:nvSpPr>
                <p:cNvPr id="296" name="Object 15"/>
                <p:cNvSpPr txBox="1"/>
                <p:nvPr/>
              </p:nvSpPr>
              <p:spPr>
                <a:xfrm>
                  <a:off x="3029040" y="5670720"/>
                  <a:ext cx="2879640" cy="68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y</m:t>
                      </m:r>
                      <m:r>
                        <m:t xml:space="preserve">=</m:t>
                      </m:r>
                      <m:r>
                        <m:t xml:space="preserve">k</m:t>
                      </m:r>
                      <m:r>
                        <m:t xml:space="preserve">(</m:t>
                      </m:r>
                      <m:r>
                        <m:t xml:space="preserve">k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Text Box 12"/>
            <p:cNvSpPr/>
            <p:nvPr/>
          </p:nvSpPr>
          <p:spPr>
            <a:xfrm>
              <a:off x="2036520" y="5670720"/>
              <a:ext cx="484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黑体"/>
                  <a:ea typeface="黑体"/>
                </a:rPr>
                <a:t>式子             呢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264960" y="800280"/>
            <a:ext cx="8712360" cy="47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列函数中哪些是反比例函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指出相应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①                   ②                   ③               ④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⑤                   ⑥                    ⑦               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101600" y="146052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 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3436920" y="14446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 2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5"/>
          <p:cNvGrpSpPr/>
          <p:nvPr/>
        </p:nvGrpSpPr>
        <p:grpSpPr>
          <a:xfrm>
            <a:off x="7423200" y="1220760"/>
            <a:ext cx="1254240" cy="952920"/>
            <a:chOff x="7423200" y="1220760"/>
            <a:chExt cx="1254240" cy="952920"/>
          </a:xfrm>
        </p:grpSpPr>
        <p:sp>
          <p:nvSpPr>
            <p:cNvPr id="302" name="Text Box 6"/>
            <p:cNvSpPr/>
            <p:nvPr/>
          </p:nvSpPr>
          <p:spPr>
            <a:xfrm>
              <a:off x="7423200" y="14302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"/>
            <p:cNvSpPr/>
            <p:nvPr/>
          </p:nvSpPr>
          <p:spPr>
            <a:xfrm>
              <a:off x="8112240" y="1704960"/>
              <a:ext cx="534960" cy="1260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8070840" y="1220760"/>
              <a:ext cx="60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9"/>
            <p:cNvSpPr/>
            <p:nvPr/>
          </p:nvSpPr>
          <p:spPr>
            <a:xfrm>
              <a:off x="8155080" y="1592280"/>
              <a:ext cx="360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0"/>
          <p:cNvGrpSpPr/>
          <p:nvPr/>
        </p:nvGrpSpPr>
        <p:grpSpPr>
          <a:xfrm>
            <a:off x="5578560" y="1260360"/>
            <a:ext cx="1222200" cy="876600"/>
            <a:chOff x="5578560" y="1260360"/>
            <a:chExt cx="1222200" cy="876600"/>
          </a:xfrm>
        </p:grpSpPr>
        <p:sp>
          <p:nvSpPr>
            <p:cNvPr id="307" name="Text Box 11"/>
            <p:cNvSpPr/>
            <p:nvPr/>
          </p:nvSpPr>
          <p:spPr>
            <a:xfrm>
              <a:off x="5578560" y="1454040"/>
              <a:ext cx="776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2"/>
            <p:cNvSpPr/>
            <p:nvPr/>
          </p:nvSpPr>
          <p:spPr>
            <a:xfrm>
              <a:off x="6283440" y="1743120"/>
              <a:ext cx="517320" cy="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3"/>
            <p:cNvSpPr/>
            <p:nvPr/>
          </p:nvSpPr>
          <p:spPr>
            <a:xfrm>
              <a:off x="6361200" y="1555560"/>
              <a:ext cx="43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4"/>
            <p:cNvSpPr/>
            <p:nvPr/>
          </p:nvSpPr>
          <p:spPr>
            <a:xfrm>
              <a:off x="6357960" y="1260360"/>
              <a:ext cx="4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5"/>
          <p:cNvSpPr/>
          <p:nvPr/>
        </p:nvSpPr>
        <p:spPr>
          <a:xfrm>
            <a:off x="1041480" y="27129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 3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6"/>
          <p:cNvGrpSpPr/>
          <p:nvPr/>
        </p:nvGrpSpPr>
        <p:grpSpPr>
          <a:xfrm>
            <a:off x="7378560" y="2440080"/>
            <a:ext cx="1368360" cy="932400"/>
            <a:chOff x="7378560" y="2440080"/>
            <a:chExt cx="1368360" cy="932400"/>
          </a:xfrm>
        </p:grpSpPr>
        <p:sp>
          <p:nvSpPr>
            <p:cNvPr id="313" name="Text Box 17"/>
            <p:cNvSpPr/>
            <p:nvPr/>
          </p:nvSpPr>
          <p:spPr>
            <a:xfrm>
              <a:off x="7378560" y="263376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8"/>
            <p:cNvSpPr/>
            <p:nvPr/>
          </p:nvSpPr>
          <p:spPr>
            <a:xfrm>
              <a:off x="8067600" y="2943360"/>
              <a:ext cx="534960" cy="12600"/>
            </a:xfrm>
            <a:prstGeom prst="line">
              <a:avLst/>
            </a:prstGeom>
            <a:ln w="255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8140680" y="2440080"/>
              <a:ext cx="60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20"/>
            <p:cNvSpPr/>
            <p:nvPr/>
          </p:nvSpPr>
          <p:spPr>
            <a:xfrm>
              <a:off x="8038800" y="2791080"/>
              <a:ext cx="636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21"/>
          <p:cNvSpPr/>
          <p:nvPr/>
        </p:nvSpPr>
        <p:spPr>
          <a:xfrm>
            <a:off x="5578560" y="2664000"/>
            <a:ext cx="128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 flipV="1">
            <a:off x="6410160" y="2962440"/>
            <a:ext cx="379440" cy="2376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3"/>
          <p:cNvSpPr/>
          <p:nvPr/>
        </p:nvSpPr>
        <p:spPr>
          <a:xfrm>
            <a:off x="6343560" y="2478240"/>
            <a:ext cx="6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4"/>
          <p:cNvSpPr/>
          <p:nvPr/>
        </p:nvSpPr>
        <p:spPr>
          <a:xfrm>
            <a:off x="6357960" y="2914560"/>
            <a:ext cx="63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5"/>
          <p:cNvSpPr/>
          <p:nvPr/>
        </p:nvSpPr>
        <p:spPr>
          <a:xfrm>
            <a:off x="3273480" y="2440080"/>
            <a:ext cx="165564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26"/>
          <p:cNvSpPr/>
          <p:nvPr/>
        </p:nvSpPr>
        <p:spPr>
          <a:xfrm>
            <a:off x="7337520" y="2523960"/>
            <a:ext cx="1509480" cy="1008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27"/>
          <p:cNvSpPr/>
          <p:nvPr/>
        </p:nvSpPr>
        <p:spPr>
          <a:xfrm>
            <a:off x="5506920" y="2495520"/>
            <a:ext cx="1440000" cy="10080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8"/>
          <p:cNvSpPr/>
          <p:nvPr/>
        </p:nvSpPr>
        <p:spPr>
          <a:xfrm>
            <a:off x="5506920" y="1257480"/>
            <a:ext cx="1366920" cy="9363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9"/>
          <p:cNvSpPr/>
          <p:nvPr/>
        </p:nvSpPr>
        <p:spPr>
          <a:xfrm>
            <a:off x="285840" y="4000680"/>
            <a:ext cx="8280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式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下列函数中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反比例函数的是（   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   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 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30"/>
          <p:cNvSpPr/>
          <p:nvPr/>
        </p:nvSpPr>
        <p:spPr>
          <a:xfrm>
            <a:off x="2352600" y="5214960"/>
            <a:ext cx="79236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1"/>
          <p:cNvSpPr/>
          <p:nvPr/>
        </p:nvSpPr>
        <p:spPr>
          <a:xfrm>
            <a:off x="1643040" y="48578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2"/>
          <p:cNvSpPr/>
          <p:nvPr/>
        </p:nvSpPr>
        <p:spPr>
          <a:xfrm>
            <a:off x="2536920" y="4695840"/>
            <a:ext cx="60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3"/>
          <p:cNvSpPr/>
          <p:nvPr/>
        </p:nvSpPr>
        <p:spPr>
          <a:xfrm>
            <a:off x="2347920" y="513540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4"/>
          <p:cNvSpPr/>
          <p:nvPr/>
        </p:nvSpPr>
        <p:spPr>
          <a:xfrm>
            <a:off x="4267080" y="484992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>
            <a:off x="4971960" y="5143680"/>
            <a:ext cx="51768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6"/>
          <p:cNvSpPr/>
          <p:nvPr/>
        </p:nvSpPr>
        <p:spPr>
          <a:xfrm>
            <a:off x="4997520" y="5572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7"/>
          <p:cNvSpPr/>
          <p:nvPr/>
        </p:nvSpPr>
        <p:spPr>
          <a:xfrm>
            <a:off x="5046840" y="463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8"/>
          <p:cNvSpPr/>
          <p:nvPr/>
        </p:nvSpPr>
        <p:spPr>
          <a:xfrm>
            <a:off x="4224240" y="5770440"/>
            <a:ext cx="7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9"/>
          <p:cNvSpPr/>
          <p:nvPr/>
        </p:nvSpPr>
        <p:spPr>
          <a:xfrm>
            <a:off x="4929120" y="6059520"/>
            <a:ext cx="517680" cy="0"/>
          </a:xfrm>
          <a:prstGeom prst="line">
            <a:avLst/>
          </a:prstGeom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0"/>
          <p:cNvSpPr/>
          <p:nvPr/>
        </p:nvSpPr>
        <p:spPr>
          <a:xfrm>
            <a:off x="4978440" y="598176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1"/>
          <p:cNvSpPr/>
          <p:nvPr/>
        </p:nvSpPr>
        <p:spPr>
          <a:xfrm>
            <a:off x="5003640" y="512460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2"/>
          <p:cNvSpPr/>
          <p:nvPr/>
        </p:nvSpPr>
        <p:spPr>
          <a:xfrm>
            <a:off x="7913520" y="3951360"/>
            <a:ext cx="6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3"/>
          <p:cNvSpPr/>
          <p:nvPr/>
        </p:nvSpPr>
        <p:spPr>
          <a:xfrm>
            <a:off x="3446280" y="263196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2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6b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例题精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5"/>
          <p:cNvSpPr/>
          <p:nvPr/>
        </p:nvSpPr>
        <p:spPr>
          <a:xfrm>
            <a:off x="214200" y="342900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变式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714240" y="999720"/>
            <a:ext cx="84297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当</a:t>
            </a: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＝</a:t>
            </a:r>
            <a:r>
              <a:rPr b="1" lang="zh-CN" sz="4000" spc="-1" strike="noStrike" u="sng">
                <a:solidFill>
                  <a:srgbClr val="404040"/>
                </a:solidFill>
                <a:uFillTx/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时，关于</a:t>
            </a: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x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的函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y=(m+1)x</a:t>
            </a:r>
            <a:r>
              <a:rPr b="1" lang="en-US" sz="4000" spc="-1" strike="noStrike" baseline="30000">
                <a:solidFill>
                  <a:srgbClr val="404040"/>
                </a:solidFill>
                <a:latin typeface="楷体_GB2312"/>
                <a:ea typeface="楷体_GB2312"/>
              </a:rPr>
              <a:t>m</a:t>
            </a:r>
            <a:r>
              <a:rPr b="1" lang="en-US" sz="4000" spc="-1" strike="noStrike" baseline="62000">
                <a:solidFill>
                  <a:srgbClr val="404040"/>
                </a:solidFill>
                <a:latin typeface="楷体_GB2312"/>
                <a:ea typeface="楷体_GB2312"/>
              </a:rPr>
              <a:t>2</a:t>
            </a:r>
            <a:r>
              <a:rPr b="1" lang="en-US" sz="4000" spc="-1" strike="noStrike" baseline="30000">
                <a:solidFill>
                  <a:srgbClr val="404040"/>
                </a:solidFill>
                <a:latin typeface="楷体_GB2312"/>
                <a:ea typeface="楷体_GB2312"/>
              </a:rPr>
              <a:t>-2</a:t>
            </a:r>
            <a:r>
              <a:rPr b="1" lang="zh-CN" sz="4000" spc="-1" strike="noStrike">
                <a:solidFill>
                  <a:srgbClr val="404040"/>
                </a:solidFill>
                <a:latin typeface="楷体_GB2312"/>
                <a:ea typeface="楷体_GB2312"/>
              </a:rPr>
              <a:t>是反比例函数？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3150720" y="250020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ff"/>
                </a:solidFill>
                <a:latin typeface="Arial"/>
                <a:ea typeface="宋体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056120" y="257508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m</a:t>
            </a:r>
            <a:r>
              <a:rPr b="0" lang="en-US" sz="3600" spc="-1" strike="noStrike" baseline="30000">
                <a:solidFill>
                  <a:srgbClr val="3333ff"/>
                </a:solidFill>
                <a:latin typeface="宋体"/>
                <a:ea typeface="宋体"/>
              </a:rPr>
              <a:t>2</a:t>
            </a: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-2=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4089240" y="34909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m+1≠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342600" y="42973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ff"/>
                </a:solidFill>
                <a:latin typeface="Arial"/>
                <a:ea typeface="宋体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8"/>
          <p:cNvGrpSpPr/>
          <p:nvPr/>
        </p:nvGrpSpPr>
        <p:grpSpPr>
          <a:xfrm>
            <a:off x="2643480" y="4297320"/>
            <a:ext cx="2966040" cy="999000"/>
            <a:chOff x="2643480" y="4297320"/>
            <a:chExt cx="2966040" cy="999000"/>
          </a:xfrm>
        </p:grpSpPr>
        <p:sp>
          <p:nvSpPr>
            <p:cNvPr id="348" name="Text Box 9"/>
            <p:cNvSpPr/>
            <p:nvPr/>
          </p:nvSpPr>
          <p:spPr>
            <a:xfrm>
              <a:off x="2643480" y="4714920"/>
              <a:ext cx="98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解得</a:t>
              </a:r>
              <a:r>
                <a:rPr b="1" lang="en-US" sz="32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:</a:t>
              </a:r>
              <a:r>
                <a:rPr b="1" lang="zh-CN" sz="32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0"/>
            <p:cNvSpPr/>
            <p:nvPr/>
          </p:nvSpPr>
          <p:spPr>
            <a:xfrm>
              <a:off x="4214160" y="4297320"/>
              <a:ext cx="139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ff"/>
                  </a:solidFill>
                  <a:latin typeface="宋体"/>
                  <a:ea typeface="宋体"/>
                </a:rPr>
                <a:t>m=±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xt Box 11"/>
          <p:cNvSpPr/>
          <p:nvPr/>
        </p:nvSpPr>
        <p:spPr>
          <a:xfrm>
            <a:off x="4130640" y="5038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宋体"/>
                <a:ea typeface="宋体"/>
              </a:rPr>
              <a:t>m≠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5257800" y="4143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123000" y="1014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6b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例题精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1"/>
          <p:cNvSpPr/>
          <p:nvPr/>
        </p:nvSpPr>
        <p:spPr>
          <a:xfrm>
            <a:off x="428760" y="2571840"/>
            <a:ext cx="300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解：由题意可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2"/>
          <p:cNvSpPr/>
          <p:nvPr/>
        </p:nvSpPr>
        <p:spPr>
          <a:xfrm>
            <a:off x="2428920" y="57862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宋体"/>
              </a:rPr>
              <a:t>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宋体"/>
              </a:rPr>
              <a:t>m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3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3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2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4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变式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168120" y="907920"/>
            <a:ext cx="835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变式：已知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+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|-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反比例函数，则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为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457200" y="1400040"/>
            <a:ext cx="85075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反比例函数，当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当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=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1908000" y="404640"/>
            <a:ext cx="5904000" cy="7923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迷你简中楷"/>
                <a:ea typeface="宋体"/>
              </a:rPr>
              <a:t>待定系数法</a:t>
            </a:r>
            <a:r>
              <a:rPr b="1" lang="zh-CN" sz="3200" spc="-1" strike="noStrike">
                <a:solidFill>
                  <a:srgbClr val="000000"/>
                </a:solidFill>
                <a:latin typeface="迷你简中楷"/>
                <a:ea typeface="宋体"/>
              </a:rPr>
              <a:t>求反比例函数表达式</a:t>
            </a:r>
            <a:r>
              <a:rPr b="1" lang="zh-CN" sz="3200" spc="-1" strike="noStrike">
                <a:solidFill>
                  <a:srgbClr val="ff0000"/>
                </a:solidFill>
                <a:latin typeface="迷你简中楷"/>
                <a:ea typeface="宋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6b9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例题精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1" name="Object 9"/>
          <p:cNvGraphicFramePr/>
          <p:nvPr/>
        </p:nvGraphicFramePr>
        <p:xfrm>
          <a:off x="1643040" y="3357720"/>
          <a:ext cx="406872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3357720"/>
                    <a:ext cx="40687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7"/>
          <p:cNvGraphicFramePr/>
          <p:nvPr/>
        </p:nvGraphicFramePr>
        <p:xfrm>
          <a:off x="2286000" y="4214880"/>
          <a:ext cx="4195800" cy="20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214880"/>
                    <a:ext cx="419580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673200" y="1817640"/>
          <a:ext cx="5267160" cy="1827360"/>
        </p:xfrm>
        <a:graphic>
          <a:graphicData uri="http://schemas.openxmlformats.org/drawingml/2006/table">
            <a:tbl>
              <a:tblPr/>
              <a:tblGrid>
                <a:gridCol w="1046160"/>
                <a:gridCol w="1058760"/>
                <a:gridCol w="1054080"/>
                <a:gridCol w="1054080"/>
                <a:gridCol w="105408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6" name="Object 40"/>
          <p:cNvGraphicFramePr/>
          <p:nvPr/>
        </p:nvGraphicFramePr>
        <p:xfrm>
          <a:off x="2982960" y="1814400"/>
          <a:ext cx="50472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2960" y="1814400"/>
                    <a:ext cx="50472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8" name="Object 41"/>
              <p:cNvSpPr txBox="1"/>
              <p:nvPr/>
            </p:nvSpPr>
            <p:spPr>
              <a:xfrm>
                <a:off x="4259160" y="1800360"/>
                <a:ext cx="279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9" name="Rectangle 42"/>
          <p:cNvSpPr/>
          <p:nvPr/>
        </p:nvSpPr>
        <p:spPr>
          <a:xfrm>
            <a:off x="457200" y="3886200"/>
            <a:ext cx="6705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出这个反比例函数的表达式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3"/>
          <p:cNvSpPr/>
          <p:nvPr/>
        </p:nvSpPr>
        <p:spPr>
          <a:xfrm>
            <a:off x="466560" y="4619520"/>
            <a:ext cx="6553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函数表达式完成上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4"/>
          <p:cNvSpPr/>
          <p:nvPr/>
        </p:nvSpPr>
        <p:spPr>
          <a:xfrm>
            <a:off x="34920" y="952560"/>
            <a:ext cx="924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变式：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是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反比例函数，下表给出了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与</a:t>
            </a:r>
            <a:r>
              <a:rPr b="1" i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的一些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45"/>
          <p:cNvSpPr/>
          <p:nvPr/>
        </p:nvSpPr>
        <p:spPr>
          <a:xfrm>
            <a:off x="36360" y="19080"/>
            <a:ext cx="1798920" cy="503280"/>
          </a:xfrm>
          <a:prstGeom prst="flowChartTerminator">
            <a:avLst/>
          </a:prstGeom>
          <a:solidFill>
            <a:srgbClr val="ffffff"/>
          </a:solidFill>
          <a:ln cap="rnd" w="19080">
            <a:solidFill>
              <a:srgbClr val="e766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c911d"/>
                </a:solidFill>
                <a:latin typeface="Trebuchet MS"/>
                <a:ea typeface="华文新魏"/>
              </a:rPr>
              <a:t>变式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14:00:49Z</dcterms:created>
  <dc:creator/>
  <dc:description/>
  <cp:keywords/>
  <dc:language>en-US</dc:language>
  <cp:lastModifiedBy>lina liu</cp:lastModifiedBy>
  <dcterms:modified xsi:type="dcterms:W3CDTF">2016-02-26T07:49:12Z</dcterms:modified>
  <cp:revision>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  <property fmtid="{D5CDD505-2E9C-101B-9397-08002B2CF9AE}" pid="3" name="Version">
    <vt:r8>1</vt:r8>
  </property>
</Properties>
</file>